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E67-B93E-4EC0-9BE9-D820FF97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665-0C9F-4A04-998E-5697C1493F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7841-7EAA-4557-B743-60F08B02C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0AA1-77DB-4AFF-B47F-5566CFFC0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8D6-E5E6-4122-B196-2BD47F990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DFC1-DE1B-42D5-9FA6-9A61F9EE18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83C8-18C2-43E0-90D5-14994CEBC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3B1-2EF4-481E-97E1-89A802F536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49F-13ED-43EB-8FCF-EA934337F7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4EC4-64BC-41C3-8CB5-B0F92FD3A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8205-9AB5-4BCE-B90F-E49A3A21E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1DE-E516-499F-AF52-76563696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9F5-1B0B-4D71-A934-4A2FF8F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ADA-127F-4968-AD2E-5AE8078B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556-E01A-42B3-AFC2-FC8544FE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806-4300-4437-B71C-472C366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4A2-FC47-4887-ACD9-50486E9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882-2711-4CF6-A0CE-0AF43E3E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5673-7717-43FD-8AC7-4DC6EC4A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96A1-6785-4656-B1AE-4696919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9DE-727A-4973-9C33-72BB51E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50E-0D01-498A-9EA5-C33DEAF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6A61-0A13-4A48-ADAA-F69E9D5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B0BB-52CB-413D-A563-15186B9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50E-E723-4BA5-8705-148739C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D41-8C92-40FD-87C4-EA6318D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1375-4AD2-4BA5-8199-B91797C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82C-7599-4631-B79E-2FDEC957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D19-94D0-478C-B2C7-17C1EF79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219-619B-4538-8190-34EE3EE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E55-50FF-4F7A-8AF4-E613627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AE0-F751-4AD8-9B58-3571FB4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062-282F-4CAA-91FC-9A75C1C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404-09C2-4D92-BA35-CD77FC2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186-C6F5-4D95-BED3-0986BBD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E6D-F498-4C64-8087-9D462C88AB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9B64-1F4B-40D0-B278-DB9FD97B33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1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1 by Robin L. Simmons. All Rights Reserved.</dc:description>
  <cp:keywords>pronouns pronoun agreement grammar Grammar Bytes! Robin L. Simmons</cp:keywords>
  <dc:language>en-US</dc:language>
  <cp:lastModifiedBy>Varner, Cheryll</cp:lastModifiedBy>
  <dcterms:modified xsi:type="dcterms:W3CDTF">2011-10-04T13:33:03Z</dcterms:modified>
  <cp:revision>303</cp:revision>
  <dc:subject/>
  <dc:title>Pronoun Agreement</dc:title>
</cp:coreProperties>
</file>